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785-600A-426D-8400-05C98BDA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E2C-ABE8-4592-ADBA-A407FB5D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F42-749C-44D0-9946-BC34CCCB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0F6-5315-414E-93C6-9D139245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F30-5E0B-457D-8C5B-E455567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F28-EB39-43A3-8B1A-9F268ED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117-9644-44D5-AB98-DD679B0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28B-4889-4B66-97E8-C6BE288D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C2F-3AC2-4C1C-A11F-5A0011D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208-C445-49DF-8E33-49B08FB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BAC-18D9-4895-9B43-FD77F6F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4B0-69B2-4610-9A29-0B3C2F9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B92-258C-4BB3-9F61-EC2A9355D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124000" y="1125360"/>
            <a:ext cx="8712000" cy="478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836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Impact"/>
              </a:rPr>
              <a:t>Science from e-VL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242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be0e3"/>
                </a:solidFill>
                <a:latin typeface="Arial Rounded MT Bold"/>
              </a:rPr>
              <a:t>Rob Fender 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(University of Southampton, UK      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	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   and Universiteit van Amsterdam, 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80536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ehalf of Valeriu Tudose, Anthony Rushton, Zsolt Paragi, Mike Garrett, Ralph Spencer, Arpad Szomoru, James Miller-Jones, Guy Pooley and many 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521080" cy="14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24360" y="692280"/>
            <a:ext cx="2808360" cy="18000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3573360"/>
            <a:ext cx="360360" cy="287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780000" y="691920"/>
            <a:ext cx="1944360" cy="28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140360" y="2491920"/>
            <a:ext cx="4392360" cy="136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47640" y="1052640"/>
            <a:ext cx="83170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arget: Cygnus X-3 – highly variable black hole bin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6 antennae :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Onsala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SW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Torun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PL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Jodrell Ban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U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Cambridge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U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Medicina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IT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  and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Westerbor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NL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Frequency: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ata transfer: 128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hree observ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arch 16 : no use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April 20 : 7 hr on-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ay 18 : 12 hr on-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6000" y="24768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First production science with e-EV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35640" y="2125800"/>
            <a:ext cx="8805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2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76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2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8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68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6360" y="-5716440"/>
            <a:ext cx="9396360" cy="9144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028000" y="115920"/>
            <a:ext cx="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115920"/>
            <a:ext cx="144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00520" y="115920"/>
            <a:ext cx="180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3720" y="2371680"/>
            <a:ext cx="2062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9840" y="2371680"/>
            <a:ext cx="10008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79960" y="4172040"/>
            <a:ext cx="968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och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4172040"/>
            <a:ext cx="105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och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149720"/>
            <a:ext cx="131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ajor radio outburst – implying relativistic accretion and ejection events, based on monitoring at 15 GHz with Ryle Telescope (i.e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external trigger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95440"/>
            <a:ext cx="9136080" cy="49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360"/>
            <a:ext cx="32767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Rounded MT Bold"/>
              </a:rPr>
              <a:t>Tudose, Fender et al.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2120" y="5532480"/>
            <a:ext cx="39416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eak flux : 3.4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ms noise : 0.03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tour leve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-15,15,25,35,45,55,65,75,85,95) x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69120" y="71280"/>
            <a:ext cx="186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ygnus 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4440" y="5532480"/>
            <a:ext cx="38718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eak flux : 18.2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ms noise : 0.2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tour leve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-15,15,25,35,45,55,65,75,85,95) x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6000" y="673200"/>
            <a:ext cx="871848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20" y="1211400"/>
            <a:ext cx="10541160" cy="5746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37520" y="139680"/>
            <a:ext cx="1806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ygnus 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360" y="5607000"/>
            <a:ext cx="36734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istribution of the electric vector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9000" y="5597640"/>
            <a:ext cx="2903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ractional linear pola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280" y="18900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Not only continuum but excellent polarisation results </a:t>
            </a: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diagnostics of relativistic sh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S1915, from April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473800" cy="5119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9680" y="347760"/>
            <a:ext cx="85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GRS 1915+105: e-VLBI obervations of a black hole 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                                                                                   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quiet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5667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Arial Rounded MT Bold"/>
              </a:rPr>
              <a:t>Rushton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50812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Rounded MT Bold"/>
              </a:rPr>
              <a:t>Provides a measure of the physical size of the relativistic outflow in ‘dormant’ states (by far the most common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58960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Eurosti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89000"/>
            <a:ext cx="837432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What did we learn from these 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ow rapidly energy is transported from the black hole to the surrounding environment, and how rapidly the flow of energy swit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Relativistic shocks in the interstellar gas </a:t>
            </a:r>
            <a:r>
              <a:rPr b="0" lang="en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dissipation of jet kinetic energy into the interstellar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Arial Rounded MT Bold"/>
              </a:rPr>
              <a:t>e-VLBI work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(and is publishe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wo journal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udose </a:t>
            </a:r>
            <a:r>
              <a:rPr b="0" i="1" lang="en-GB" sz="2400" spc="-1" strike="noStrike">
                <a:solidFill>
                  <a:srgbClr val="ffffff"/>
                </a:solidFill>
                <a:latin typeface="Arial Rounded MT Bold"/>
              </a:rPr>
              <a:t>et al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Rushton </a:t>
            </a:r>
            <a:r>
              <a:rPr b="0" i="1" lang="en-GB" sz="2400" spc="-1" strike="noStrike">
                <a:solidFill>
                  <a:srgbClr val="ffffff"/>
                </a:solidFill>
                <a:latin typeface="Arial Rounded MT Bold"/>
              </a:rPr>
              <a:t>et al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0360" y="3459240"/>
            <a:ext cx="6264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4005360"/>
            <a:ext cx="338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718000">
            <a:off x="7020000" y="693360"/>
            <a:ext cx="792360" cy="1656000"/>
          </a:xfrm>
          <a:custGeom>
            <a:avLst/>
            <a:gdLst>
              <a:gd name="textAreaLeft" fmla="*/ 174240 w 792360"/>
              <a:gd name="textAreaRight" fmla="*/ 618120 w 792360"/>
              <a:gd name="textAreaTop" fmla="*/ 363960 h 1656000"/>
              <a:gd name="textAreaBottom" fmla="*/ 1292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718000">
            <a:off x="5228640" y="-323640"/>
            <a:ext cx="1152720" cy="2467080"/>
          </a:xfrm>
          <a:custGeom>
            <a:avLst/>
            <a:gdLst>
              <a:gd name="textAreaLeft" fmla="*/ 253440 w 1152720"/>
              <a:gd name="textAreaRight" fmla="*/ 899280 w 1152720"/>
              <a:gd name="textAreaTop" fmla="*/ 542520 h 2467080"/>
              <a:gd name="textAreaBottom" fmla="*/ 1924560 h 24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718000">
            <a:off x="4897080" y="731880"/>
            <a:ext cx="1415880" cy="809640"/>
          </a:xfrm>
          <a:custGeom>
            <a:avLst/>
            <a:gdLst>
              <a:gd name="textAreaLeft" fmla="*/ 311400 w 1415880"/>
              <a:gd name="textAreaRight" fmla="*/ 1104480 w 1415880"/>
              <a:gd name="textAreaTop" fmla="*/ 177840 h 809640"/>
              <a:gd name="textAreaBottom" fmla="*/ 6318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557360"/>
            <a:ext cx="360360" cy="3603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557360"/>
            <a:ext cx="360360" cy="360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108800">
            <a:off x="4626360" y="23490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Arial Rounded MT Bold"/>
              </a:rPr>
              <a:t>GRS 1915+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1584360" cy="1482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9275600">
            <a:off x="2739240" y="22046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Rounded MT Bold"/>
              </a:rPr>
              <a:t>Cygnus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39840" y="3805200"/>
            <a:ext cx="736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More rapid tracking of these events will broaden our understanding of the relation between inflow and outflow           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need rapid (days) response to observ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Once a major outflow / shock etc is detected we need to trigger additional observations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need rapi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2519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210960"/>
            <a:ext cx="3600360" cy="70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 Rounded MT Bold"/>
              </a:rPr>
              <a:t>Future scientific pro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e-VLBI is a superb development. We look forward to further observations of high-energy, rapidly-variable transients. This includes proposed coordination with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GLAST burst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LOFAR Radio Sky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Spectrum-RG Lob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8900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 Rounded MT Bold"/>
              </a:rPr>
              <a:t>What the observers would like :</a:t>
            </a:r>
            <a:r>
              <a:rPr b="1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More possibility for ad-hoc e-VLBI ses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The most exciting events are necessarily rare and unpredictable so we need to be able to get VLBI images very rapidly (</a:t>
            </a: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e-VLBI) on short timescales (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52520" y="62308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 Rounded MT Bold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8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8569440" cy="52434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Why e-VLBI is exciting fo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know what is going on at the smallest angular scales (close to the central engine e.g. black h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s are rapidly variable so we need rapid response to observing requests, and rapid analysi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rdination with current and future observatories (e.g. LOFAR, Chandra, GL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07080" y="325440"/>
            <a:ext cx="64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erlin Sans FB Demi"/>
              </a:rPr>
              <a:t>Australian e-VLBI – ‘PAM(H)ELA’ – first scienc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765000"/>
            <a:ext cx="28800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</a:rPr>
              <a:t>Circinus 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First Australian e-VLBI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etection of radio ‘core’ following a phase of radio fl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Compact nature of core (unlike Cygnus X-3) supports interpretation that radio-emitting jet is pointing directly a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his system contains a </a:t>
            </a: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neutron star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which seems to behave like the </a:t>
            </a: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black hol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280" y="549360"/>
            <a:ext cx="8964720" cy="504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72200" y="3673440"/>
            <a:ext cx="405288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Test cases: black holes in out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Data processing took 1-2 weeks with first images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 Rounded MT Bold"/>
              </a:rPr>
              <a:t>within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Publication took less than 2 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73680" y="115920"/>
            <a:ext cx="72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Eurostile"/>
              </a:rPr>
              <a:t>Observing black holes within our gala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9795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9795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5480" y="92700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‘</a:t>
            </a: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soft’ X-ra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25160" y="9079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‘</a:t>
            </a: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hard’ X-ra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530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companion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505080" cy="1079640"/>
          </a:xfrm>
          <a:prstGeom prst="downArrow">
            <a:avLst>
              <a:gd name="adj1" fmla="val 50000"/>
              <a:gd name="adj2" fmla="val 5343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561800">
            <a:off x="3373560" y="3438360"/>
            <a:ext cx="504720" cy="2409840"/>
          </a:xfrm>
          <a:prstGeom prst="upArrow">
            <a:avLst>
              <a:gd name="adj1" fmla="val 50000"/>
              <a:gd name="adj2" fmla="val 11936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accretion di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1000 K &lt; T &lt; 10,000,000 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5760" y="474516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T &gt; 100 MK ?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112600">
            <a:off x="7380000" y="3644640"/>
            <a:ext cx="504720" cy="1079280"/>
          </a:xfrm>
          <a:prstGeom prst="upArrow">
            <a:avLst>
              <a:gd name="adj1" fmla="val 50000"/>
              <a:gd name="adj2" fmla="val 534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8920" y="5753160"/>
            <a:ext cx="3751560" cy="8254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v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~</a:t>
            </a: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 c) </a:t>
            </a:r>
            <a:r>
              <a:rPr b="1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bbe0e3"/>
                </a:solidFill>
                <a:latin typeface="Eurostile"/>
              </a:rPr>
              <a:t> Radio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95400"/>
            <a:ext cx="4448160" cy="333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20720" y="61279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rec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41960" y="15955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046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All of these accreting sources produce radio-emitting outflows: </a:t>
            </a:r>
            <a:r>
              <a:rPr b="0" lang="en-GB" sz="2400" spc="-1" strike="noStrike">
                <a:solidFill>
                  <a:srgbClr val="ffff00"/>
                </a:solidFill>
                <a:latin typeface="Eurostile"/>
              </a:rPr>
              <a:t>high energy processes ar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Eurostile"/>
              </a:rPr>
              <a:t>always</a:t>
            </a:r>
            <a:r>
              <a:rPr b="0" lang="en-GB" sz="2400" spc="-1" strike="noStrike">
                <a:solidFill>
                  <a:srgbClr val="ffff00"/>
                </a:solidFill>
                <a:latin typeface="Eurostile"/>
              </a:rPr>
              <a:t> associated with radio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3114720"/>
            <a:ext cx="334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df82c"/>
                </a:solidFill>
                <a:latin typeface="Eurostile"/>
              </a:rPr>
              <a:t>GRS 1915+105</a:t>
            </a: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15 solar mass black hole in 33 da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Jets moving at &gt;0.99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Associated with outbur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Carrying a huge amou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800" y="1628640"/>
            <a:ext cx="615636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24360" y="1773360"/>
            <a:ext cx="719280" cy="1152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924280"/>
            <a:ext cx="5724360" cy="3744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2720" y="2492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ERLIN (daily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645000"/>
            <a:ext cx="446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   </a:t>
            </a: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There are several hundred such objects in the galactic pla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    </a:t>
            </a: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e-VLBI has ten times better angular re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0840" y="-117360"/>
            <a:ext cx="3778200" cy="469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14880" y="189000"/>
            <a:ext cx="46782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e6e6ff"/>
                </a:solidFill>
                <a:latin typeface="Berlin Sans FB"/>
              </a:rPr>
              <a:t>These objects are small-scale analogs of supermassive black ho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429000"/>
            <a:ext cx="4248360" cy="22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e6e6ff"/>
                </a:solidFill>
                <a:latin typeface="Berlin Sans FB"/>
              </a:rPr>
              <a:t>We can use them to study the evolution of feedback and galaxy formation over cosmic ti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76880" y="1197000"/>
            <a:ext cx="2928960" cy="388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5516640"/>
            <a:ext cx="8496360" cy="11912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The varying feedback of accretion power which has shaped our modern universe over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millions of years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can be observed in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weeks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in X-ray b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8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WHY DO THI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1357200"/>
            <a:ext cx="70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Two years in the life of the black hole X-ray binary GX 339-4 (compressed to two minutes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 Rounded MT Bold"/>
              </a:rPr>
              <a:t>one second = six days</a:t>
            </a: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1920" y="49338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Light curve’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48360" y="2852280"/>
            <a:ext cx="0" cy="158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11640" y="4653000"/>
            <a:ext cx="187164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869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Spectral changes (‘mode’ of accre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72200" y="3301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3880" y="3373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Lumin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694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718000">
            <a:off x="7020000" y="693360"/>
            <a:ext cx="792360" cy="1656000"/>
          </a:xfrm>
          <a:custGeom>
            <a:avLst/>
            <a:gdLst>
              <a:gd name="textAreaLeft" fmla="*/ 174240 w 792360"/>
              <a:gd name="textAreaRight" fmla="*/ 618120 w 792360"/>
              <a:gd name="textAreaTop" fmla="*/ 363960 h 1656000"/>
              <a:gd name="textAreaBottom" fmla="*/ 1292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718000">
            <a:off x="5228640" y="-323640"/>
            <a:ext cx="1152720" cy="2467080"/>
          </a:xfrm>
          <a:custGeom>
            <a:avLst/>
            <a:gdLst>
              <a:gd name="textAreaLeft" fmla="*/ 253440 w 1152720"/>
              <a:gd name="textAreaRight" fmla="*/ 899280 w 1152720"/>
              <a:gd name="textAreaTop" fmla="*/ 542520 h 2467080"/>
              <a:gd name="textAreaBottom" fmla="*/ 1924560 h 24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718000">
            <a:off x="4897080" y="731880"/>
            <a:ext cx="1415880" cy="809640"/>
          </a:xfrm>
          <a:custGeom>
            <a:avLst/>
            <a:gdLst>
              <a:gd name="textAreaLeft" fmla="*/ 311400 w 1415880"/>
              <a:gd name="textAreaRight" fmla="*/ 1104480 w 1415880"/>
              <a:gd name="textAreaTop" fmla="*/ 177840 h 809640"/>
              <a:gd name="textAreaBottom" fmla="*/ 6318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61080" y="22939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t the vertex, before the spectral change begins, there is a steady, small-scale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7840" y="207792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s the spectrum changes the jet becomes powerful and 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005360"/>
            <a:ext cx="338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789360"/>
            <a:ext cx="388764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These changes occur on a timescale of ~one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we need rapid-response high-resolution radio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2421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t the end of the transition the jet is switch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02960" y="49356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What exactly is happening to the j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35Z</dcterms:created>
  <dc:creator>Rob Fender</dc:creator>
  <dc:description/>
  <dc:language>en-US</dc:language>
  <cp:lastModifiedBy>Rob Fender</cp:lastModifiedBy>
  <dcterms:modified xsi:type="dcterms:W3CDTF">2007-04-17T09:21:55Z</dcterms:modified>
  <cp:revision>24</cp:revision>
  <dc:subject/>
  <dc:title>Slide 1</dc:title>
</cp:coreProperties>
</file>